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23.png" ContentType="image/pn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6C5FC-62FE-4042-91BF-8B2E1B796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D7536-2510-4585-88AA-5E374E419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71149-8284-49E8-87E7-F0ACD1F34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63163-E48C-489B-A0C6-349BD6043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88D6C-78D2-46FD-B88C-4E7C197D3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940CA-6EEE-4E6D-8B06-F76C73E2E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2F441-DC30-4516-886E-C8AF8995B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43FF1-270B-4FD6-A0FA-D8D954BE7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C4E8C-8B14-4D92-B81A-03CCAC67C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BCADE-EFCA-40D7-842A-932817A78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BD64F-A25E-44FB-B10A-493663C48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FB9A6-15E1-4BCA-9C0D-16125103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B17A2-2441-42C3-A8E6-EA3C13B70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F8E05-036C-4570-99E9-0C1447340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42D30-DF5F-4A22-AC0E-B2C098614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07A6D-262A-418E-BE9B-E3DB729EE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724DB4-7FD3-4450-8442-B405099CE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909C5B-443B-4275-8C0B-18D0643E2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9478D8-2A16-48DC-8811-DA3C2441D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CB67B9-8741-445B-A6FA-543B06AA3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7E38A-A9CB-4A61-852C-7B57C6546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C9936-8504-44FB-8547-1500F07E3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EF043-F102-4843-BE1B-091F3965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7C62A6-E893-449B-BE53-143581B909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5CDBA-8D5C-4C86-B1D0-DBBBEB8DF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7333C-7376-4FD5-B97A-8F0A21ACE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A489F-3355-4FD5-931C-C45601A02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34E22-8546-4EEB-A570-AD0AA4F69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74B23F-9351-4DE6-B9E9-DAA8E07FA1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F69C46-C1EB-4FB5-8B41-3AF430E97D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59CE27-8952-4EBB-920E-5A5C86C678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B62BB-E4C1-4920-AF12-9A5B0CC9A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07E6D-4CDD-4212-BBB5-EF52B5C4B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5D699-E3F2-48BD-A2F4-FDF46EC1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C28C3-542D-4097-AAF0-1E7998C7B0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72D64A-B579-4F34-AF57-9D3519D76D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16B5C-1889-43AC-AF4A-2C52C492A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11BEA-14E6-4407-AB1B-BAF7F0FD6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1B956-AC63-4890-9930-056651311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8899C-93DF-4D9C-AA37-2FBEE0B3E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BEC7D1-A11B-45B1-88F0-673F6C532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10B736-C11A-4045-AB0F-FB127D800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8CEB40-9EF4-4D5B-BD97-0D9557BAD6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5B1D62-87EE-4BDB-A36F-5321728859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95C45-6AE6-4A1F-872A-9D1FB3F10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AD457-9E3C-4CC8-B2D3-1A9B377F64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585069-2677-45E2-AEAC-E5B7DB46F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32DFBF-E7D5-474C-BF5F-CDE97A26F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9ED749-E981-447A-AC9B-5E1A724B0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43825F-5397-4CB9-A64A-EEFD6A6287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372E1-A993-4742-B78C-8C96ACB44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DD4E9-B22F-47C5-A925-19134F609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83EE4-295D-4198-81BD-73204C66B0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590A3E-8375-468F-A1A5-0DA95DA9C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3083D0-9CB3-48D6-ADC7-5131912037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42526-124F-451B-ACC0-C8C1B9DB3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44C8E5-BFB8-46FD-B330-77AEA364A5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6FA9D4-6FF9-47A2-AD04-D860C5009A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5095C8-6B05-4F1B-998F-5D1702C13D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A2D6B1-737F-44B3-B0DA-BC0CAC8DA6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00E43D-9BCE-4B99-B405-59A5EC259A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36E6FA-BE9A-4F22-8B6B-B7A83514D0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BAB701-E3AA-4ED3-8CEC-60468D42B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286B13-C6AA-44AE-ADD0-76E7AAC7B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99097E-DF2A-4E7D-AC5C-EA5ACE779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22D22-71C3-42D1-B275-2FFEB461E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AC34B-07BF-4DCE-8C8F-5BABF87FC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3F506-CF2D-4004-B6BD-F97DEC5A4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082CD9-EEC5-412C-8ACC-F79288CE8D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0E21F5-9F6C-4B46-A5E5-FD43530D3A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44D7B4-F7D6-4899-81D6-77D614CC16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FD0523-3688-450A-A360-3FD86A808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BE9345-88C0-4894-9585-5612D36509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FB5F41-C1F3-4324-B379-F4EF800D5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AE2E8F-388E-4AF0-B99B-1F490A8354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BB980B-B3F6-4E0B-AEE4-1EA84AFF52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8AADC9-FC52-4A18-8DE3-5F29338D1F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9C9F-D8EE-4393-BE0A-C88BF48B0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3EFF76-41DF-4D71-BD04-48010DFACB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597743-CA23-4AD4-85A4-07C1E36D8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AA049-F5C6-4E2C-B380-F44FBFF8F5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069944-7310-4363-971B-0CCE67D21C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2E989D-C704-4E78-9A7A-22B33B9396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8F6FB7-C5FC-4E7B-B1DA-84A54F4DE1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67FDBF-1E2E-4E95-9163-0AF68BBC03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46EB20-AD92-4E53-83ED-54A713377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1F0A37-EE36-4675-9F89-FF2F9EEACC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94281-96E3-47AF-AE31-78EF4FD39D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E62EF-00DA-4A98-B483-72A091A9C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5691DE-E73C-4A6E-8A46-C76F5E3DAE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05F526-E4CB-4259-BC15-97EC63CC51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0C2F45-9CFC-4785-8ECC-91ED75B05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6382B4-781F-4961-8634-ED073897DA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B35B92-19FD-42F9-B871-4A3E663987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E3CAB4-C66D-4F7A-96DE-E80535F241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B611A2-AAB9-45D7-B2E0-FF45AAE3A31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6B06-AEAA-43C4-B6CF-9641F58E6A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3B50-7C63-4090-A723-EBE4B4D6041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D878-5D69-4779-8507-ABEEB7D7AC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EE05-1DF7-438C-9369-87CA139567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53AB-C097-4C9E-83F8-58BD402466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185B-E921-4A65-8A7C-D66649E5C1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6FEA-9CA4-4A73-891F-A86610C63C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667C-4262-4EBA-8F6D-F9B2283971D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384200"/>
            <a:ext cx="8205840" cy="22068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Dec 2, 2010</a:t>
            </a: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Rodney Beede</a:t>
            </a: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University of Colorado</a:t>
            </a: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CSCI 5722 – Computer Vision</a:t>
            </a:r>
            <a:endParaRPr b="0" lang="en-US" sz="11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64646"/>
                </a:solidFill>
                <a:latin typeface="Lucida Sans Unicode"/>
              </a:rPr>
              <a:t>contactme@rodneybeede.com</a:t>
            </a:r>
            <a:endParaRPr b="0" lang="en-US" sz="1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threshold met set to white</a:t>
            </a:r>
            <a:endParaRPr b="0" lang="en-US" sz="2700" spc="-1" strike="noStrike">
              <a:solidFill>
                <a:srgbClr val="000000"/>
              </a:solidFill>
              <a:latin typeface="Lucida Sans Unicode"/>
            </a:endParaRPr>
          </a:p>
          <a:p>
            <a:pPr lvl="1" marL="914400" indent="-51444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therwise black</a:t>
            </a:r>
            <a:endParaRPr b="0" lang="en-US" sz="23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unt the number of black &amp; white pixels</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creates a 1.5 ratio contrast</a:t>
            </a:r>
            <a:br>
              <a:rPr sz="2700"/>
            </a:br>
            <a:r>
              <a:rPr b="0" lang="en-US" sz="2400" spc="-1" strike="noStrike">
                <a:solidFill>
                  <a:srgbClr val="000000"/>
                </a:solidFill>
                <a:latin typeface="Lucida Sans Unicode"/>
              </a:rPr>
              <a:t>“By using different intensities of contrast for each word, two problems are dealt with at once: the distinction between normal fonts and bold ones and the removal of “dirty spots” or artifacts left over by OCR. Hereby the density of black and white pixels in the areas of both words is separately adjusted to a ratio of 1.5 white to black pixel”  (Wegener)</a:t>
            </a:r>
            <a:endParaRPr b="0" lang="en-US" sz="24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gnify the contrast image with h2qx</a:t>
            </a:r>
            <a:endParaRPr b="0" lang="en-US" sz="2700" spc="-1" strike="noStrike">
              <a:solidFill>
                <a:srgbClr val="000000"/>
              </a:solidFill>
              <a:latin typeface="Lucida Sans Unicode"/>
            </a:endParaRPr>
          </a:p>
          <a:p>
            <a:pPr lvl="1" marL="914400" indent="-51444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s a pixel art algorithm for anti-aliasing</a:t>
            </a:r>
            <a:endParaRPr b="0" lang="en-US" sz="2300" spc="-1" strike="noStrike">
              <a:solidFill>
                <a:srgbClr val="000000"/>
              </a:solidFill>
              <a:latin typeface="Lucida Sans Unicode"/>
            </a:endParaRPr>
          </a:p>
          <a:p>
            <a:pPr lvl="1" marL="914400" indent="-51444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rger image allows sharpening with less risk of detail loss inside characters</a:t>
            </a:r>
            <a:endParaRPr b="0" lang="en-US" sz="23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Sharpen the image</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alculate top and bottom of each character column</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alculate middle black pixel in each column</a:t>
            </a:r>
            <a:endParaRPr b="0" lang="en-US" sz="2700" spc="-1" strike="noStrike">
              <a:solidFill>
                <a:srgbClr val="000000"/>
              </a:solidFill>
              <a:latin typeface="Lucida Sans Unicode"/>
            </a:endParaRPr>
          </a:p>
          <a:p>
            <a:pPr lvl="1" marL="914400" indent="-514440">
              <a:spcBef>
                <a:spcPts val="326"/>
              </a:spcBef>
              <a:buClr>
                <a:srgbClr val="2da2b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Move columns by </a:t>
            </a:r>
            <a:br>
              <a:rPr sz="2700"/>
            </a:br>
            <a:r>
              <a:rPr b="0" lang="en-US" sz="2700" spc="-1" strike="noStrike">
                <a:solidFill>
                  <a:srgbClr val="000000"/>
                </a:solidFill>
                <a:latin typeface="Lucida Sans Unicode"/>
              </a:rPr>
              <a:t>(height of image / 2) - center value(x)</a:t>
            </a:r>
            <a:endParaRPr b="0" lang="en-US" sz="2700" spc="-1" strike="noStrike">
              <a:solidFill>
                <a:srgbClr val="000000"/>
              </a:solidFill>
              <a:latin typeface="Lucida Sans Unicode"/>
            </a:endParaRPr>
          </a:p>
          <a:p>
            <a:pPr lvl="1" marL="914400" indent="-51444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enter value is smoothed by 0.2 to reduce bumps in transitions</a:t>
            </a:r>
            <a:endParaRPr b="0" lang="en-US" sz="23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rop top and bottom whitespace from image</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Hand image to OCR</a:t>
            </a:r>
            <a:endParaRPr b="0" lang="en-US" sz="2700" spc="-1" strike="noStrike">
              <a:solidFill>
                <a:srgbClr val="000000"/>
              </a:solidFill>
              <a:latin typeface="Lucida Sans Unicode"/>
            </a:endParaRPr>
          </a:p>
        </p:txBody>
      </p:sp>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8229600" cy="110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iginal reCAPTCHA</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larged for presentation)</a:t>
            </a:r>
            <a:endParaRPr b="0" lang="en-US" sz="2300" spc="-1" strike="noStrike">
              <a:solidFill>
                <a:srgbClr val="000000"/>
              </a:solidFill>
              <a:latin typeface="Lucida Sans Unicode"/>
            </a:endParaRPr>
          </a:p>
        </p:txBody>
      </p:sp>
      <p:pic>
        <p:nvPicPr>
          <p:cNvPr id="396" name="Title 1" descr=""/>
          <p:cNvPicPr/>
          <p:nvPr/>
        </p:nvPicPr>
        <p:blipFill>
          <a:blip r:embed="rId1"/>
          <a:stretch/>
        </p:blipFill>
        <p:spPr>
          <a:xfrm>
            <a:off x="195120" y="268200"/>
            <a:ext cx="8498160" cy="1158840"/>
          </a:xfrm>
          <a:prstGeom prst="rect">
            <a:avLst/>
          </a:prstGeom>
          <a:ln w="0">
            <a:noFill/>
          </a:ln>
        </p:spPr>
      </p:pic>
      <p:pic>
        <p:nvPicPr>
          <p:cNvPr id="397" name="Picture 3" descr="C:\Users\Shauna Hoggan\Desktop\Final Paper and Presentation\Sample Data\reCaptcha, 2010-10-26\who deautor.jpg"/>
          <p:cNvPicPr/>
          <p:nvPr/>
        </p:nvPicPr>
        <p:blipFill>
          <a:blip r:embed="rId2"/>
          <a:stretch/>
        </p:blipFill>
        <p:spPr>
          <a:xfrm>
            <a:off x="2286000" y="2994120"/>
            <a:ext cx="4572000" cy="86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600200"/>
            <a:ext cx="8229600" cy="110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uring processing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urvature line imposed in red for debug purposes</a:t>
            </a:r>
            <a:endParaRPr b="0" lang="en-US" sz="2300" spc="-1" strike="noStrike">
              <a:solidFill>
                <a:srgbClr val="000000"/>
              </a:solidFill>
              <a:latin typeface="Lucida Sans Unicode"/>
            </a:endParaRPr>
          </a:p>
        </p:txBody>
      </p:sp>
      <p:pic>
        <p:nvPicPr>
          <p:cNvPr id="399" name="Title 1" descr=""/>
          <p:cNvPicPr/>
          <p:nvPr/>
        </p:nvPicPr>
        <p:blipFill>
          <a:blip r:embed="rId1"/>
          <a:stretch/>
        </p:blipFill>
        <p:spPr>
          <a:xfrm>
            <a:off x="195120" y="268200"/>
            <a:ext cx="8498160" cy="1158840"/>
          </a:xfrm>
          <a:prstGeom prst="rect">
            <a:avLst/>
          </a:prstGeom>
          <a:ln w="0">
            <a:noFill/>
          </a:ln>
        </p:spPr>
      </p:pic>
      <p:pic>
        <p:nvPicPr>
          <p:cNvPr id="400" name="Picture 4" descr="C:\Users\Shauna Hoggan\Desktop\Final Paper and Presentation\Test Results Data\reCaptcha, antirecaptcha, 2010-11-04\who deautor--debug.jpg"/>
          <p:cNvPicPr/>
          <p:nvPr/>
        </p:nvPicPr>
        <p:blipFill>
          <a:blip r:embed="rId2"/>
          <a:stretch/>
        </p:blipFill>
        <p:spPr>
          <a:xfrm>
            <a:off x="0" y="2682720"/>
            <a:ext cx="9144000" cy="173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599840"/>
            <a:ext cx="8229600" cy="584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processing </a:t>
            </a:r>
            <a:endParaRPr b="0" lang="en-US" sz="2700" spc="-1" strike="noStrike">
              <a:solidFill>
                <a:srgbClr val="000000"/>
              </a:solidFill>
              <a:latin typeface="Lucida Sans Unicode"/>
            </a:endParaRPr>
          </a:p>
        </p:txBody>
      </p:sp>
      <p:pic>
        <p:nvPicPr>
          <p:cNvPr id="402" name="Title 1" descr=""/>
          <p:cNvPicPr/>
          <p:nvPr/>
        </p:nvPicPr>
        <p:blipFill>
          <a:blip r:embed="rId1"/>
          <a:stretch/>
        </p:blipFill>
        <p:spPr>
          <a:xfrm>
            <a:off x="195120" y="268200"/>
            <a:ext cx="8498160" cy="1158840"/>
          </a:xfrm>
          <a:prstGeom prst="rect">
            <a:avLst/>
          </a:prstGeom>
          <a:ln w="0">
            <a:noFill/>
          </a:ln>
        </p:spPr>
      </p:pic>
      <p:pic>
        <p:nvPicPr>
          <p:cNvPr id="403" name="Picture 5" descr="C:\Users\Shauna Hoggan\Desktop\Final Paper and Presentation\Test Results Data\reCaptcha, antirecaptcha, 2010-11-04\who deautor--cropped.jpg"/>
          <p:cNvPicPr/>
          <p:nvPr/>
        </p:nvPicPr>
        <p:blipFill>
          <a:blip r:embed="rId2"/>
          <a:stretch/>
        </p:blipFill>
        <p:spPr>
          <a:xfrm>
            <a:off x="0" y="3139920"/>
            <a:ext cx="9144000" cy="82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95120" y="268200"/>
            <a:ext cx="8498160" cy="1158840"/>
          </a:xfrm>
          <a:prstGeom prst="rect">
            <a:avLst/>
          </a:prstGeom>
          <a:ln w="0">
            <a:noFill/>
          </a:ln>
        </p:spPr>
      </p:pic>
      <p:graphicFrame>
        <p:nvGraphicFramePr>
          <p:cNvPr id="405" name=""/>
          <p:cNvGraphicFramePr/>
          <p:nvPr/>
        </p:nvGraphicFramePr>
        <p:xfrm>
          <a:off x="380880" y="1295280"/>
          <a:ext cx="8305920" cy="4408560"/>
        </p:xfrm>
        <a:graphic>
          <a:graphicData uri="http://schemas.openxmlformats.org/drawingml/2006/table">
            <a:tbl>
              <a:tblPr/>
              <a:tblGrid>
                <a:gridCol w="2509920"/>
                <a:gridCol w="3672000"/>
                <a:gridCol w="2124000"/>
              </a:tblGrid>
              <a:tr h="677880">
                <a:tc>
                  <a:txBody>
                    <a:bodyPr lIns="73080" rIns="73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Regular OCR (Tesseract)</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antirecatpcha</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73080" rIns="73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Complete Match</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0.2%</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2%</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73080" rIns="73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Partial Match</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10.7%</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21.6%</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73080" rIns="73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No Match</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89.1%</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c>
                  <a:txBody>
                    <a:bodyPr lIns="73080" rIns="73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77.4%</a:t>
                      </a:r>
                      <a:endParaRPr b="0" lang="en-US" sz="2400" spc="-1" strike="noStrike">
                        <a:solidFill>
                          <a:srgbClr val="000000"/>
                        </a:solidFill>
                        <a:latin typeface="Arial"/>
                      </a:endParaRPr>
                    </a:p>
                  </a:txBody>
                  <a:tcPr anchor="t" marL="73080" marR="73080">
                    <a:lnL w="5760">
                      <a:solidFill>
                        <a:srgbClr val="000000"/>
                      </a:solidFill>
                    </a:lnL>
                    <a:lnR w="5760">
                      <a:solidFill>
                        <a:srgbClr val="000000"/>
                      </a:solidFill>
                    </a:lnR>
                    <a:lnT w="5760">
                      <a:solidFill>
                        <a:srgbClr val="000000"/>
                      </a:solidFill>
                    </a:lnT>
                    <a:lnB w="5760">
                      <a:solidFill>
                        <a:srgbClr val="000000"/>
                      </a:solidFill>
                    </a:lnB>
                    <a:noFill/>
                  </a:tcPr>
                </a:tc>
              </a:tr>
              <a:tr h="1993680">
                <a:tc gridSpan="3">
                  <a:txBody>
                    <a:bodyPr lIns="0" rIns="73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Times New Roman"/>
                          <a:ea typeface="Calibri"/>
                        </a:rPr>
                        <a:t>Table 1:  Out of 1,000 samples.</a:t>
                      </a:r>
                      <a:endParaRPr b="0" lang="en-US" sz="2400" spc="-1" strike="noStrike">
                        <a:solidFill>
                          <a:srgbClr val="000000"/>
                        </a:solidFill>
                        <a:latin typeface="Arial"/>
                      </a:endParaRPr>
                    </a:p>
                    <a:p>
                      <a:pPr>
                        <a:lnSpc>
                          <a:spcPct val="115000"/>
                        </a:lnSpc>
                        <a:buClr>
                          <a:srgbClr val="4f81b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Times New Roman"/>
                          <a:ea typeface="Calibri"/>
                        </a:rPr>
                        <a:t> </a:t>
                      </a:r>
                      <a:r>
                        <a:rPr b="1" lang="en-US" sz="2400" spc="-1" strike="noStrike">
                          <a:solidFill>
                            <a:srgbClr val="4f81bd"/>
                          </a:solidFill>
                          <a:latin typeface="Times New Roman"/>
                          <a:ea typeface="Calibri"/>
                        </a:rPr>
                        <a:t>Complete means both words matched</a:t>
                      </a:r>
                      <a:endParaRPr b="0" lang="en-US" sz="2400" spc="-1" strike="noStrike">
                        <a:solidFill>
                          <a:srgbClr val="000000"/>
                        </a:solidFill>
                        <a:latin typeface="Arial"/>
                      </a:endParaRPr>
                    </a:p>
                    <a:p>
                      <a:pPr>
                        <a:lnSpc>
                          <a:spcPct val="115000"/>
                        </a:lnSpc>
                        <a:buClr>
                          <a:srgbClr val="4f81b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Times New Roman"/>
                          <a:ea typeface="Calibri"/>
                        </a:rPr>
                        <a:t> </a:t>
                      </a:r>
                      <a:r>
                        <a:rPr b="1" lang="en-US" sz="2400" spc="-1" strike="noStrike">
                          <a:solidFill>
                            <a:srgbClr val="4f81bd"/>
                          </a:solidFill>
                          <a:latin typeface="Times New Roman"/>
                          <a:ea typeface="Calibri"/>
                        </a:rPr>
                        <a:t>Partial means only one word</a:t>
                      </a:r>
                      <a:endParaRPr b="0" lang="en-US" sz="2400" spc="-1" strike="noStrike">
                        <a:solidFill>
                          <a:srgbClr val="000000"/>
                        </a:solidFill>
                        <a:latin typeface="Arial"/>
                      </a:endParaRPr>
                    </a:p>
                    <a:p>
                      <a:pPr>
                        <a:lnSpc>
                          <a:spcPct val="115000"/>
                        </a:lnSpc>
                        <a:buClr>
                          <a:srgbClr val="4f81b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Times New Roman"/>
                          <a:ea typeface="Calibri"/>
                        </a:rPr>
                        <a:t> </a:t>
                      </a:r>
                      <a:r>
                        <a:rPr b="1" lang="en-US" sz="2400" spc="-1" strike="noStrike">
                          <a:solidFill>
                            <a:srgbClr val="4f81bd"/>
                          </a:solidFill>
                          <a:latin typeface="Times New Roman"/>
                          <a:ea typeface="Calibri"/>
                        </a:rPr>
                        <a:t>No means neither word.</a:t>
                      </a:r>
                      <a:endParaRPr b="0" lang="en-US" sz="2400" spc="-1" strike="noStrike">
                        <a:solidFill>
                          <a:srgbClr val="000000"/>
                        </a:solidFill>
                        <a:latin typeface="Arial"/>
                      </a:endParaRPr>
                    </a:p>
                  </a:txBody>
                  <a:tcPr anchor="t" marR="7308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C</a:t>
            </a:r>
            <a:r>
              <a:rPr b="0" lang="en-US" sz="2700" spc="-1" strike="noStrike">
                <a:solidFill>
                  <a:srgbClr val="000000"/>
                </a:solidFill>
                <a:latin typeface="Lucida Sans Unicode"/>
              </a:rPr>
              <a:t>ompletely</a:t>
            </a:r>
            <a:endParaRPr b="0" lang="en-US" sz="2700" spc="-1" strike="noStrike">
              <a:solidFill>
                <a:srgbClr val="000000"/>
              </a:solidFill>
              <a:latin typeface="Lucida Sans Unicode"/>
            </a:endParaRPr>
          </a:p>
          <a:p>
            <a:pPr marL="365040" indent="-255600">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A</a:t>
            </a:r>
            <a:r>
              <a:rPr b="0" lang="en-US" sz="2700" spc="-1" strike="noStrike">
                <a:solidFill>
                  <a:srgbClr val="000000"/>
                </a:solidFill>
                <a:latin typeface="Lucida Sans Unicode"/>
              </a:rPr>
              <a:t>utomated</a:t>
            </a:r>
            <a:endParaRPr b="0" lang="en-US" sz="2700" spc="-1" strike="noStrike">
              <a:solidFill>
                <a:srgbClr val="000000"/>
              </a:solidFill>
              <a:latin typeface="Lucida Sans Unicode"/>
            </a:endParaRPr>
          </a:p>
          <a:p>
            <a:pPr marL="365040" indent="-255600">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P</a:t>
            </a:r>
            <a:r>
              <a:rPr b="0" lang="en-US" sz="2700" spc="-1" strike="noStrike">
                <a:solidFill>
                  <a:srgbClr val="000000"/>
                </a:solidFill>
                <a:latin typeface="Lucida Sans Unicode"/>
              </a:rPr>
              <a:t>ublic</a:t>
            </a:r>
            <a:endParaRPr b="0" lang="en-US" sz="2700" spc="-1" strike="noStrike">
              <a:solidFill>
                <a:srgbClr val="000000"/>
              </a:solidFill>
              <a:latin typeface="Lucida Sans Unicode"/>
            </a:endParaRPr>
          </a:p>
          <a:p>
            <a:pPr marL="365040" indent="-255600">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T</a:t>
            </a:r>
            <a:r>
              <a:rPr b="0" lang="en-US" sz="2700" spc="-1" strike="noStrike">
                <a:solidFill>
                  <a:srgbClr val="000000"/>
                </a:solidFill>
                <a:latin typeface="Lucida Sans Unicode"/>
              </a:rPr>
              <a:t>uring test to tell</a:t>
            </a:r>
            <a:endParaRPr b="0" lang="en-US" sz="2700" spc="-1" strike="noStrike">
              <a:solidFill>
                <a:srgbClr val="000000"/>
              </a:solidFill>
              <a:latin typeface="Lucida Sans Unicode"/>
            </a:endParaRPr>
          </a:p>
          <a:p>
            <a:pPr marL="365040" indent="-255600">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C</a:t>
            </a:r>
            <a:r>
              <a:rPr b="0" lang="en-US" sz="2700" spc="-1" strike="noStrike">
                <a:solidFill>
                  <a:srgbClr val="000000"/>
                </a:solidFill>
                <a:latin typeface="Lucida Sans Unicode"/>
              </a:rPr>
              <a:t>omputers and</a:t>
            </a:r>
            <a:endParaRPr b="0" lang="en-US" sz="2700" spc="-1" strike="noStrike">
              <a:solidFill>
                <a:srgbClr val="000000"/>
              </a:solidFill>
              <a:latin typeface="Lucida Sans Unicode"/>
            </a:endParaRPr>
          </a:p>
          <a:p>
            <a:pPr marL="365040" indent="-255600">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H</a:t>
            </a:r>
            <a:r>
              <a:rPr b="0" lang="en-US" sz="2700" spc="-1" strike="noStrike">
                <a:solidFill>
                  <a:srgbClr val="000000"/>
                </a:solidFill>
                <a:latin typeface="Lucida Sans Unicode"/>
              </a:rPr>
              <a:t>umans</a:t>
            </a:r>
            <a:endParaRPr b="0" lang="en-US" sz="2700" spc="-1" strike="noStrike">
              <a:solidFill>
                <a:srgbClr val="000000"/>
              </a:solidFill>
              <a:latin typeface="Lucida Sans Unicode"/>
            </a:endParaRPr>
          </a:p>
          <a:p>
            <a:pPr marL="365040" indent="-255600">
              <a:spcBef>
                <a:spcPts val="400"/>
              </a:spcBef>
              <a:buClr>
                <a:srgbClr val="000000"/>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A</a:t>
            </a:r>
            <a:r>
              <a:rPr b="0" lang="en-US" sz="2700" spc="-1" strike="noStrike">
                <a:solidFill>
                  <a:srgbClr val="000000"/>
                </a:solidFill>
                <a:latin typeface="Lucida Sans Unicode"/>
              </a:rPr>
              <a:t>part</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AM preven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mail account signup</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essage forum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erifying online pol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opping ticket scalp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warting  botne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vent automated means by OC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hallenge user to prove huma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w characters or words in imag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tortion of ima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andom background nois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nes through im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nding or curving of imag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oal:  Opposite of computer vision</a:t>
            </a:r>
            <a:endParaRPr b="0" lang="en-US" sz="2700" spc="-1" strike="noStrike">
              <a:solidFill>
                <a:srgbClr val="000000"/>
              </a:solidFill>
              <a:latin typeface="Lucida Sans Unicode"/>
            </a:endParaRPr>
          </a:p>
        </p:txBody>
      </p:sp>
      <p:pic>
        <p:nvPicPr>
          <p:cNvPr id="377"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ented in 2007 by Luis von Ah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cquired by Google in 2009</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thodolog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wo distorted words present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trol word with known solu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known word</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istorical text</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distorted hard for OCR</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1" descr=""/>
          <p:cNvPicPr/>
          <p:nvPr/>
        </p:nvPicPr>
        <p:blipFill>
          <a:blip r:embed="rId1"/>
          <a:stretch/>
        </p:blipFill>
        <p:spPr>
          <a:xfrm>
            <a:off x="195120" y="268200"/>
            <a:ext cx="8498160" cy="1158840"/>
          </a:xfrm>
          <a:prstGeom prst="rect">
            <a:avLst/>
          </a:prstGeom>
          <a:ln w="0">
            <a:noFill/>
          </a:ln>
        </p:spPr>
      </p:pic>
      <p:pic>
        <p:nvPicPr>
          <p:cNvPr id="380" name="Picture 5" descr=""/>
          <p:cNvPicPr/>
          <p:nvPr/>
        </p:nvPicPr>
        <p:blipFill>
          <a:blip r:embed="rId2"/>
          <a:stretch/>
        </p:blipFill>
        <p:spPr>
          <a:xfrm>
            <a:off x="3057480" y="4800600"/>
            <a:ext cx="3029040" cy="126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llect 1,000 sample reCAPTCHA’s</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nd enter correct solution</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alyze with regular OCR</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alyze with anti-recaptcha</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pare percentages</a:t>
            </a:r>
            <a:endParaRPr b="0" lang="en-US" sz="2700" spc="-1" strike="noStrike">
              <a:solidFill>
                <a:srgbClr val="000000"/>
              </a:solidFill>
              <a:latin typeface="Lucida Sans Unicode"/>
            </a:endParaRPr>
          </a:p>
          <a:p>
            <a:pPr marL="514440" indent="-514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veloped by Hewlett Packard in 198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pen sourced 200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intained by Google n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s adaptive thresholding</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parate background &amp; foregrou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utlines of characters with polygonal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ained with dictionar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ented October 2010 by Benjamin Wegen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processing algorithms in PHP</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ake reCAPTCHA im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distort i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nd new image to Tesseract OC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 of cre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feat CAPTCHA on software download sites</a:t>
            </a:r>
            <a:endParaRPr b="0" lang="en-US" sz="23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left edge of first word</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right edge of first word</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peat for second word</a:t>
            </a:r>
            <a:endParaRPr b="0" lang="en-US" sz="2700" spc="-1" strike="noStrike">
              <a:solidFill>
                <a:srgbClr val="000000"/>
              </a:solidFill>
              <a:latin typeface="Lucida Sans Unicode"/>
            </a:endParaRPr>
          </a:p>
          <a:p>
            <a:pPr lvl="1" marL="914400" indent="-514440">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reshold of white columns to separate words</a:t>
            </a:r>
            <a:endParaRPr b="0" lang="en-US" sz="23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p the top and bottoms of each character column based on a threshold</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each column look for pixels that exceed a certain red threshold</a:t>
            </a:r>
            <a:endParaRPr b="0" lang="en-US" sz="2700" spc="-1" strike="noStrike">
              <a:solidFill>
                <a:srgbClr val="000000"/>
              </a:solidFill>
              <a:latin typeface="Lucida Sans Unicode"/>
            </a:endParaRPr>
          </a:p>
          <a:p>
            <a:pPr marL="51444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4T00:35:14Z</dcterms:created>
  <dc:creator>Rodney</dc:creator>
  <dc:description/>
  <dc:language>en-US</dc:language>
  <cp:lastModifiedBy>Rodney</cp:lastModifiedBy>
  <dcterms:modified xsi:type="dcterms:W3CDTF">2010-11-25T00:42:34Z</dcterms:modified>
  <cp:revision>75</cp:revision>
  <dc:subject/>
  <dc:title>Slide 1</dc:title>
</cp:coreProperties>
</file>